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780-BD88-4CC2-B682-2EF429D9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922-DE93-4958-9432-8DB33AFA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BED-E475-44A6-B337-48DF77B6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0A5-82BE-411A-AB6E-C2306E2C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A15-ACA3-49C1-8649-914576B3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04E-515A-4625-8C3F-E88BBAEA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898-0AB6-41EA-B6B6-B5E0A3F5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E90-A98B-44BB-8984-D34630CB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3F6-270C-4E68-B336-764501DC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F96-53BC-4E6D-AD70-A3CD0311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910-7EE1-4C27-852B-1F16630E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AE2-5F33-4674-96C9-93EB7EF8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8D83-60F5-4C54-9ACD-B7DF1F2E58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40040" y="733320"/>
            <a:ext cx="51102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2560" y="1557360"/>
            <a:ext cx="7777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84360" y="152244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090440"/>
            <a:ext cx="5616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057320"/>
            <a:ext cx="7488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2723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6087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235160"/>
            <a:ext cx="5183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758880"/>
            <a:ext cx="75358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50403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9:35Z</dcterms:created>
  <dc:creator>tahir</dc:creator>
  <dc:description/>
  <dc:language>en-US</dc:language>
  <cp:lastModifiedBy>tahir</cp:lastModifiedBy>
  <dcterms:modified xsi:type="dcterms:W3CDTF">2006-02-07T12:49:49Z</dcterms:modified>
  <cp:revision>1</cp:revision>
  <dc:subject/>
  <dc:title>الشريحة 1</dc:title>
</cp:coreProperties>
</file>